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2B94-996B-4B46-B502-D6250A965C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D1B6-239A-4E21-9C15-5C56A2FEB6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095A-50FA-46D1-AD78-55C12BE4C0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F6C-866B-47B4-9C56-919478A9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D0B-C005-4AC0-9CD3-A76B67D6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B59-A86F-4C20-9F69-726DF48E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B1F-D11D-439C-9D9B-E5229646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583-BDE3-4C90-B59C-25F0847F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631-EFD2-4CBB-8D73-74052FCE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526-390D-416C-9A78-9F8AC8B2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D9D-1A24-49AD-A96F-91089F97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A38-5C95-4DF9-A2DC-756B0E82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EDD-8157-43FD-9A06-45C19449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C14-11C2-443E-8773-26B30FB2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15D-02D5-4EE5-ACD7-ED9C57E7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0B57-9B6F-4E3B-B505-E984E3C933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"/>
          <p:cNvGrpSpPr/>
          <p:nvPr/>
        </p:nvGrpSpPr>
        <p:grpSpPr>
          <a:xfrm>
            <a:off x="-3240" y="52560"/>
            <a:ext cx="9137880" cy="780840"/>
            <a:chOff x="-3240" y="52560"/>
            <a:chExt cx="9137880" cy="780840"/>
          </a:xfrm>
        </p:grpSpPr>
        <p:pic>
          <p:nvPicPr>
            <p:cNvPr id="49" name="Picture 4" descr="ГЕРБ"/>
            <p:cNvPicPr/>
            <p:nvPr/>
          </p:nvPicPr>
          <p:blipFill>
            <a:blip r:embed="rId1"/>
            <a:stretch/>
          </p:blipFill>
          <p:spPr>
            <a:xfrm>
              <a:off x="-3240" y="60480"/>
              <a:ext cx="770040" cy="763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0" name="Object 5"/>
            <p:cNvGraphicFramePr/>
            <p:nvPr/>
          </p:nvGraphicFramePr>
          <p:xfrm>
            <a:off x="8308800" y="52560"/>
            <a:ext cx="825840" cy="780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308800" y="52560"/>
                      <a:ext cx="825840" cy="78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Text Box 6"/>
            <p:cNvSpPr/>
            <p:nvPr/>
          </p:nvSpPr>
          <p:spPr>
            <a:xfrm>
              <a:off x="746280" y="235080"/>
              <a:ext cx="7608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0000"/>
                  </a:solidFill>
                  <a:latin typeface="Arial"/>
                </a:rPr>
                <a:t>Министерство строительства, архитектуры и ЖКХ Республики Татарста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8567640" y="652464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53D3-B20E-485D-A916-9A69D4B857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855720"/>
            <a:ext cx="9144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Реализация 185-ФЗ, ввод жил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в Республике Татарс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в 2010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5 июня 201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6"/>
          <p:cNvSpPr/>
          <p:nvPr/>
        </p:nvSpPr>
        <p:spPr>
          <a:xfrm>
            <a:off x="8567640" y="652464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8A62-51FB-463B-AAB5-A431EA788B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0" y="18900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огноз по вводу жи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 январь-июнь 2010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(кв. мет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1268280"/>
          <a:ext cx="8713800" cy="4638960"/>
        </p:xfrm>
        <a:graphic>
          <a:graphicData uri="http://schemas.openxmlformats.org/drawingml/2006/table">
            <a:tbl>
              <a:tblPr/>
              <a:tblGrid>
                <a:gridCol w="5680080"/>
                <a:gridCol w="3033720"/>
              </a:tblGrid>
              <a:tr h="14684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одовое задание по РТ на 2010 го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000 000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585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Ввод по Р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950 00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854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з них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 программе ГЖФ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0 00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7"/>
          <p:cNvSpPr/>
          <p:nvPr/>
        </p:nvSpPr>
        <p:spPr>
          <a:xfrm>
            <a:off x="0" y="189000"/>
            <a:ext cx="9252000" cy="2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4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Жилищная Программа по данным МО РТ на 2011-2013 год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3080" y="620640"/>
          <a:ext cx="9036000" cy="5837400"/>
        </p:xfrm>
        <a:graphic>
          <a:graphicData uri="http://schemas.openxmlformats.org/drawingml/2006/table">
            <a:tbl>
              <a:tblPr/>
              <a:tblGrid>
                <a:gridCol w="322200"/>
                <a:gridCol w="1584360"/>
                <a:gridCol w="792000"/>
                <a:gridCol w="792360"/>
                <a:gridCol w="811080"/>
                <a:gridCol w="322200"/>
                <a:gridCol w="1746360"/>
                <a:gridCol w="865080"/>
                <a:gridCol w="935280"/>
                <a:gridCol w="865080"/>
              </a:tblGrid>
              <a:tr h="192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 РТ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 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грыз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аише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знакаев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ниногор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субае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мадыш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аныш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нделее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ексее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нзел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ькее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слюмо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ьметьев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жнекам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асто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шешм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р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5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урлат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8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тн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стреч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влин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4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-Слобод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лтас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б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5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9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гульмин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рмано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ин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3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2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ас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-Усло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тюш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5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окогор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кае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ожжано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юляч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лабуж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6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7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еремша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ин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ополь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3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еленодоль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таз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3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йбиц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Наб.Чел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 0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 3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 6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кмор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Каза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-Усть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 по 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6 4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1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67 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250920" y="1197000"/>
          <a:ext cx="8569080" cy="5529240"/>
        </p:xfrm>
        <a:graphic>
          <a:graphicData uri="http://schemas.openxmlformats.org/drawingml/2006/table">
            <a:tbl>
              <a:tblPr/>
              <a:tblGrid>
                <a:gridCol w="6589440"/>
                <a:gridCol w="1979640"/>
              </a:tblGrid>
              <a:tr h="87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в реестре по РТ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етера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1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заключивших догово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 Программе социальной ипот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fc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fc5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 рынке жил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fc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fc5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 строительство нового жиль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 т.ч. на собств. участке, пристро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fc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fc5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ы финансирование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2010 го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8f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6"/>
          <p:cNvSpPr/>
          <p:nvPr/>
        </p:nvSpPr>
        <p:spPr>
          <a:xfrm>
            <a:off x="8567640" y="652464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ACA2-35DC-4065-9739-CA3303656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водная информация по Р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 ходе обеспечения жильем ветеранов В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ставших на учет после 01.03.2005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6"/>
          <p:cNvSpPr/>
          <p:nvPr/>
        </p:nvSpPr>
        <p:spPr>
          <a:xfrm>
            <a:off x="8567640" y="652464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F407-828C-48CB-8EC2-065BFBFA6D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0" y="260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Информация по Программ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Ж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 улучшению жилищных условий ветера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ОВ, вставших на учет после 01.03.200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8000" y="1773360"/>
          <a:ext cx="8928000" cy="2282760"/>
        </p:xfrm>
        <a:graphic>
          <a:graphicData uri="http://schemas.openxmlformats.org/drawingml/2006/table">
            <a:tbl>
              <a:tblPr/>
              <a:tblGrid>
                <a:gridCol w="1295280"/>
                <a:gridCol w="1498680"/>
                <a:gridCol w="1957320"/>
                <a:gridCol w="1657440"/>
                <a:gridCol w="1584360"/>
                <a:gridCol w="934920"/>
              </a:tblGrid>
              <a:tr h="91512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объ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квартир (инд.ж.д.) для ветера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 строительства объектов, тыс.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чено, тыс.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о по форма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С-2, КС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12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53 4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97 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80 2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0" y="0"/>
            <a:ext cx="9144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ЖФ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о улучшению жилищных условий ветеранов 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8000" y="549360"/>
          <a:ext cx="8785080" cy="6184800"/>
        </p:xfrm>
        <a:graphic>
          <a:graphicData uri="http://schemas.openxmlformats.org/drawingml/2006/table">
            <a:tbl>
              <a:tblPr/>
              <a:tblGrid>
                <a:gridCol w="360360"/>
                <a:gridCol w="1655640"/>
                <a:gridCol w="1152720"/>
                <a:gridCol w="1885680"/>
                <a:gridCol w="1492560"/>
                <a:gridCol w="1490400"/>
                <a:gridCol w="747720"/>
              </a:tblGrid>
              <a:tr h="426600"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 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объ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 строительства объектов, тыс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чено, тыс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о по формам КС-2, КС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рыз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 3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накаев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6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7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субаев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ныш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 6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 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еев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 9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метьев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9 5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 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астов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 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2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 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огор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 5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7 4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абуж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 0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одоль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 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-Усть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 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кмор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2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мадыш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2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рлат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 6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7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тречин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7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7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-Слободско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с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5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юш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 6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Н.Чел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19 5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7 4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 9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gridSpan="2"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20 МО РТ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53 4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97 4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80 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8567640" y="652464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62E9-5F1E-479E-9A84-DC14842792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0" y="260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Информация по Программ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ИСУ 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 улучшению жилищных условий ветера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ОВ, вставших на учет после 01.03.200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8000" y="1773360"/>
          <a:ext cx="8928000" cy="2282760"/>
        </p:xfrm>
        <a:graphic>
          <a:graphicData uri="http://schemas.openxmlformats.org/drawingml/2006/table">
            <a:tbl>
              <a:tblPr/>
              <a:tblGrid>
                <a:gridCol w="1295280"/>
                <a:gridCol w="1498680"/>
                <a:gridCol w="1957320"/>
                <a:gridCol w="1657440"/>
                <a:gridCol w="1511280"/>
                <a:gridCol w="1008000"/>
              </a:tblGrid>
              <a:tr h="91512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объ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квартир (инд.ж.д.) для ветера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 строительства объектов, тыс.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чено, тыс.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о по форма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С-2, КС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720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9 2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 85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1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08000" y="617400"/>
          <a:ext cx="8928000" cy="6134400"/>
        </p:xfrm>
        <a:graphic>
          <a:graphicData uri="http://schemas.openxmlformats.org/drawingml/2006/table">
            <a:tbl>
              <a:tblPr/>
              <a:tblGrid>
                <a:gridCol w="287280"/>
                <a:gridCol w="1584360"/>
                <a:gridCol w="792000"/>
                <a:gridCol w="2376720"/>
                <a:gridCol w="1224000"/>
                <a:gridCol w="936360"/>
                <a:gridCol w="1008360"/>
                <a:gridCol w="718920"/>
              </a:tblGrid>
              <a:tr h="365400"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 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объ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 строительства объектов, 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чено, 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о по форм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С-2, КС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накае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субае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4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ныш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9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ее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4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кее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аст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5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8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н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ров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5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8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вл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тас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ровля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вн.отделк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сд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7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4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еусло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вн.отдел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6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жжан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ров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7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одоль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йбиц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ров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9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-Усть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кмор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.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7"/>
          <p:cNvSpPr/>
          <p:nvPr/>
        </p:nvSpPr>
        <p:spPr>
          <a:xfrm>
            <a:off x="0" y="0"/>
            <a:ext cx="914400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ИСУ Р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о строительству жилья для ветеранов 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 24.06.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08000" y="669960"/>
          <a:ext cx="8928000" cy="6154560"/>
        </p:xfrm>
        <a:graphic>
          <a:graphicData uri="http://schemas.openxmlformats.org/drawingml/2006/table">
            <a:tbl>
              <a:tblPr/>
              <a:tblGrid>
                <a:gridCol w="287280"/>
                <a:gridCol w="1655640"/>
                <a:gridCol w="792360"/>
                <a:gridCol w="2376360"/>
                <a:gridCol w="1152720"/>
                <a:gridCol w="863640"/>
                <a:gridCol w="1081080"/>
                <a:gridCol w="718920"/>
              </a:tblGrid>
              <a:tr h="365400"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 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объ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 строительства объектов, 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чено, 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о по форм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С-2, КС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42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жжан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ров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7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одоль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йбиц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ров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9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-Усть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кмор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.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зел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ров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9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слюм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.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ошешм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4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треч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-Слобод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б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ров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3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с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юляч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ров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6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ополь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5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Р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9 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 8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7"/>
          <p:cNvSpPr/>
          <p:nvPr/>
        </p:nvSpPr>
        <p:spPr>
          <a:xfrm>
            <a:off x="0" y="0"/>
            <a:ext cx="91440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ИСУ Р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о строительству жилья для ветеранов 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 24.06.2010 г.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7"/>
          <p:cNvSpPr/>
          <p:nvPr/>
        </p:nvSpPr>
        <p:spPr>
          <a:xfrm>
            <a:off x="0" y="260280"/>
            <a:ext cx="9144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нформация по строящимся объектам многоквартирного жиль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ля ветеранов ВОВ в г.Казани чере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МУП «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ирекция Муниципальных жилищных програм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9280" y="1341360"/>
          <a:ext cx="8856720" cy="4824360"/>
        </p:xfrm>
        <a:graphic>
          <a:graphicData uri="http://schemas.openxmlformats.org/drawingml/2006/table">
            <a:tbl>
              <a:tblPr/>
              <a:tblGrid>
                <a:gridCol w="360360"/>
                <a:gridCol w="3113280"/>
                <a:gridCol w="1063440"/>
                <a:gridCol w="1295640"/>
                <a:gridCol w="1439640"/>
                <a:gridCol w="1584360"/>
              </a:tblGrid>
              <a:tr h="12812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бъ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кварт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ветеранов заключивших догов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о средств от ветеранов, тыс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елен аванс, тыс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904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.Дубравная, №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.Дубравная, №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2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Касимовы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ойского, д.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ойского, д.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2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 gridSpan="2">
                  <a:txBody>
                    <a:bodyPr lIns="126000" rIns="12600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 2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3"/>
          <p:cNvGrpSpPr/>
          <p:nvPr/>
        </p:nvGrpSpPr>
        <p:grpSpPr>
          <a:xfrm>
            <a:off x="-3240" y="52560"/>
            <a:ext cx="9137880" cy="780840"/>
            <a:chOff x="-3240" y="52560"/>
            <a:chExt cx="9137880" cy="780840"/>
          </a:xfrm>
        </p:grpSpPr>
        <p:pic>
          <p:nvPicPr>
            <p:cNvPr id="94" name="Picture 4" descr="ГЕРБ"/>
            <p:cNvPicPr/>
            <p:nvPr/>
          </p:nvPicPr>
          <p:blipFill>
            <a:blip r:embed="rId1"/>
            <a:stretch/>
          </p:blipFill>
          <p:spPr>
            <a:xfrm>
              <a:off x="-3240" y="60480"/>
              <a:ext cx="770040" cy="763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5" name="Object 5"/>
            <p:cNvGraphicFramePr/>
            <p:nvPr/>
          </p:nvGraphicFramePr>
          <p:xfrm>
            <a:off x="8308800" y="52560"/>
            <a:ext cx="825840" cy="780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308800" y="52560"/>
                      <a:ext cx="825840" cy="78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Text Box 6"/>
            <p:cNvSpPr/>
            <p:nvPr/>
          </p:nvSpPr>
          <p:spPr>
            <a:xfrm>
              <a:off x="746280" y="235080"/>
              <a:ext cx="7608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0000"/>
                  </a:solidFill>
                  <a:latin typeface="Arial"/>
                </a:rPr>
                <a:t>Министерство строительства, архитектуры и ЖКХ Республики Татарста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7"/>
          <p:cNvSpPr/>
          <p:nvPr/>
        </p:nvSpPr>
        <p:spPr>
          <a:xfrm>
            <a:off x="8567640" y="652464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6699-CBD7-4045-86C2-4E3945E4A3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0" y="855720"/>
            <a:ext cx="9144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Реализация 185-ФЗ, ввод жил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в Республике Татарс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в 2010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5 июня 201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33"/>
          <p:cNvSpPr/>
          <p:nvPr/>
        </p:nvSpPr>
        <p:spPr>
          <a:xfrm>
            <a:off x="179280" y="2239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вижение средств Фонда на счета ТСЖ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 16 по 24 ию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71640" y="1139760"/>
          <a:ext cx="7345440" cy="2482920"/>
        </p:xfrm>
        <a:graphic>
          <a:graphicData uri="http://schemas.openxmlformats.org/drawingml/2006/table">
            <a:tbl>
              <a:tblPr/>
              <a:tblGrid>
                <a:gridCol w="2087640"/>
                <a:gridCol w="1873080"/>
                <a:gridCol w="3384720"/>
              </a:tblGrid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Фонда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0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исл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чета УК и ТСЖ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16 ию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6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24 ию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9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54080" y="404640"/>
          <a:ext cx="8810640" cy="6409080"/>
        </p:xfrm>
        <a:graphic>
          <a:graphicData uri="http://schemas.openxmlformats.org/drawingml/2006/table">
            <a:tbl>
              <a:tblPr/>
              <a:tblGrid>
                <a:gridCol w="169920"/>
                <a:gridCol w="1854000"/>
                <a:gridCol w="863640"/>
                <a:gridCol w="936720"/>
                <a:gridCol w="528480"/>
                <a:gridCol w="281160"/>
                <a:gridCol w="1871640"/>
                <a:gridCol w="839880"/>
                <a:gridCol w="936360"/>
                <a:gridCol w="528840"/>
              </a:tblGrid>
              <a:tr h="6094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ит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исл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ч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СЖ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ит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исл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ч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СЖ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грыз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аиш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знака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ниногор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суба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мадыш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аныш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нделе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ексе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нзел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ьметь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слюмо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астов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б. Чел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р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жнекам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вл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гт. Камские Поля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лтас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шешми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гульм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урлат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стречи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рхнеусло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-Слобод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окогор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б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ожжано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рманов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лабуж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ас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тюш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еленодоль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ка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за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юлячи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йбиц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еремша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-Усть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опо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кмор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тази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по 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7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7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233"/>
          <p:cNvSpPr/>
          <p:nvPr/>
        </p:nvSpPr>
        <p:spPr>
          <a:xfrm>
            <a:off x="611280" y="-324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Информация по перечислению средств местного бюджет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24 ию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92240" y="623880"/>
          <a:ext cx="8772480" cy="6118200"/>
        </p:xfrm>
        <a:graphic>
          <a:graphicData uri="http://schemas.openxmlformats.org/drawingml/2006/table">
            <a:tbl>
              <a:tblPr/>
              <a:tblGrid>
                <a:gridCol w="1831680"/>
                <a:gridCol w="719280"/>
                <a:gridCol w="1101600"/>
                <a:gridCol w="696960"/>
                <a:gridCol w="1870200"/>
                <a:gridCol w="863640"/>
                <a:gridCol w="1231920"/>
                <a:gridCol w="457200"/>
              </a:tblGrid>
              <a:tr h="6364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ит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ис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че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СУ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ит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ис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че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СУ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97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грыз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аиш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97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знака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ниногор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83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суба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мадыш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аныш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нделе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ексе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нзел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239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ьметь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слюмо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асто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б. Чел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97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р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жнекам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вл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шешм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509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лтас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урлат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гульм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стреч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826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-Слобод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635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рхнеусло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б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79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окогор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рманов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ожжано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ас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лабуж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тюш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602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ка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еленодоль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юлячи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за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еремша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йбиц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опо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491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-Усть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тази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кмор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по 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1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233"/>
          <p:cNvSpPr/>
          <p:nvPr/>
        </p:nvSpPr>
        <p:spPr>
          <a:xfrm>
            <a:off x="611280" y="-3240"/>
            <a:ext cx="806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Информация по перечислению средств собственников на счета ГИ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24 ию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54080" y="622440"/>
          <a:ext cx="8881920" cy="6119640"/>
        </p:xfrm>
        <a:graphic>
          <a:graphicData uri="http://schemas.openxmlformats.org/drawingml/2006/table">
            <a:tbl>
              <a:tblPr/>
              <a:tblGrid>
                <a:gridCol w="1673280"/>
                <a:gridCol w="1006200"/>
                <a:gridCol w="1125720"/>
                <a:gridCol w="636480"/>
                <a:gridCol w="1708200"/>
                <a:gridCol w="1125720"/>
                <a:gridCol w="1117440"/>
                <a:gridCol w="488880"/>
              </a:tblGrid>
              <a:tr h="6364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ис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че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СУ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ис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че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СЖ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ис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че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СУ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ис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че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СЖ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97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грыз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аиш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знака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ниногор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суба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мадыш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97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аныш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нделе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ексе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нзел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235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ьметь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слюмо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асто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б. Чел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р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жнекам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635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вл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шешм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505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лтас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урлат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гульм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стреч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-Слобод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635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рхнеусло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б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окогор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рманов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ожжано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ас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509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лабуж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тюш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602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каев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6964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еленодоль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юлячи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685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за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еремша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йбиц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опо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491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-Усть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тази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кмор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по 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233"/>
          <p:cNvSpPr/>
          <p:nvPr/>
        </p:nvSpPr>
        <p:spPr>
          <a:xfrm>
            <a:off x="611280" y="-3240"/>
            <a:ext cx="806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Информация по перечислению средств собственников на счета ТС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24 ию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700360" y="981000"/>
          <a:ext cx="3816360" cy="5040360"/>
        </p:xfrm>
        <a:graphic>
          <a:graphicData uri="http://schemas.openxmlformats.org/drawingml/2006/table">
            <a:tbl>
              <a:tblPr/>
              <a:tblGrid>
                <a:gridCol w="554040"/>
                <a:gridCol w="3262320"/>
              </a:tblGrid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еленодольс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за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лабуж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ниногор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б. Чел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ополь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233"/>
          <p:cNvSpPr/>
          <p:nvPr/>
        </p:nvSpPr>
        <p:spPr>
          <a:xfrm>
            <a:off x="179280" y="182520"/>
            <a:ext cx="8964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МО, которым необходимо завершить работу по заключению договоров с ГИСУ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по состоянию </a:t>
            </a:r>
            <a:r>
              <a:rPr b="1" lang="ru-RU" sz="1900" spc="-1" strike="noStrike">
                <a:solidFill>
                  <a:srgbClr val="ff0000"/>
                </a:solidFill>
                <a:latin typeface="Times New Roman"/>
              </a:rPr>
              <a:t>на 24 ию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9"/>
          <p:cNvSpPr/>
          <p:nvPr/>
        </p:nvSpPr>
        <p:spPr>
          <a:xfrm>
            <a:off x="684360" y="-100080"/>
            <a:ext cx="7777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Финансирование программы капитального ремо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85840" y="1197000"/>
          <a:ext cx="8678880" cy="4659120"/>
        </p:xfrm>
        <a:graphic>
          <a:graphicData uri="http://schemas.openxmlformats.org/drawingml/2006/table">
            <a:tbl>
              <a:tblPr/>
              <a:tblGrid>
                <a:gridCol w="2270160"/>
                <a:gridCol w="1152360"/>
                <a:gridCol w="2158920"/>
                <a:gridCol w="649440"/>
                <a:gridCol w="1727280"/>
                <a:gridCol w="720720"/>
              </a:tblGrid>
              <a:tr h="1496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и финанс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исление на счета местного бюджета и ГИ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ислено на счета УК и ТС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18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 40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 40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 29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 36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8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8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 07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7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7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 61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0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 44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 24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 96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9"/>
          <p:cNvSpPr/>
          <p:nvPr/>
        </p:nvSpPr>
        <p:spPr>
          <a:xfrm>
            <a:off x="684360" y="-100080"/>
            <a:ext cx="7777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своение программы капитального ремо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8000" y="1197000"/>
          <a:ext cx="8928000" cy="1928880"/>
        </p:xfrm>
        <a:graphic>
          <a:graphicData uri="http://schemas.openxmlformats.org/drawingml/2006/table">
            <a:tbl>
              <a:tblPr/>
              <a:tblGrid>
                <a:gridCol w="1871640"/>
                <a:gridCol w="1440000"/>
                <a:gridCol w="1584000"/>
                <a:gridCol w="1944720"/>
                <a:gridCol w="2087640"/>
              </a:tblGrid>
              <a:tr h="12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ит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ено средств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ормлено актов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 актов ГЖИ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3600"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 Татарс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 44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 78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 18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0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8000" y="549360"/>
          <a:ext cx="8928000" cy="6113520"/>
        </p:xfrm>
        <a:graphic>
          <a:graphicData uri="http://schemas.openxmlformats.org/drawingml/2006/table">
            <a:tbl>
              <a:tblPr/>
              <a:tblGrid>
                <a:gridCol w="1295280"/>
                <a:gridCol w="792360"/>
                <a:gridCol w="863640"/>
                <a:gridCol w="720720"/>
                <a:gridCol w="720720"/>
                <a:gridCol w="1295280"/>
                <a:gridCol w="936720"/>
                <a:gridCol w="863640"/>
                <a:gridCol w="720720"/>
                <a:gridCol w="718920"/>
              </a:tblGrid>
              <a:tr h="5922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К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рас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отр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ед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л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К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рас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отр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ед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л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505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грыз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аишев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знакаев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ниногор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субаев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мадыш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аныш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нделеев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ексеев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нзелин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ьметьев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слюмов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астов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б. Чел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р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жнекам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влин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шешмин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лтасин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урлат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09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гульмин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стречин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ин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-Слобод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рхнеуслон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бин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окогор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рман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ожжанов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ас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лабуж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тюш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ин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каев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еленодоль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юляч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за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еремша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09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йбиц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ополь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-Устьин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таз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09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кморск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по 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sp>
        <p:nvSpPr>
          <p:cNvPr id="70" name="Text Box 233"/>
          <p:cNvSpPr/>
          <p:nvPr/>
        </p:nvSpPr>
        <p:spPr>
          <a:xfrm>
            <a:off x="468360" y="6840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нформация по ПСД по состояни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23 ию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03:08Z</dcterms:created>
  <dc:creator>serg</dc:creator>
  <dc:description/>
  <dc:language>en-US</dc:language>
  <cp:lastModifiedBy>Шархамуллин Х.М.</cp:lastModifiedBy>
  <dcterms:modified xsi:type="dcterms:W3CDTF">2010-06-24T14:10:10Z</dcterms:modified>
  <cp:revision>399</cp:revision>
  <dc:subject/>
  <dc:title>Презентация PowerPoint</dc:title>
</cp:coreProperties>
</file>