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759DF7-7AE8-4C19-8C09-C0386BD5E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7E8-8361-46BE-A542-FC601251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656BEB-5AA8-475A-967A-82D381B7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CB8-EFF5-4764-B0EE-92E9822C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CF4-9136-420B-9420-11EBA845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A96-0D18-4190-B8B4-82A1350C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ECA-B450-493C-AFF3-AB92FFA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A3E-BF44-4933-9E04-A5CC2A7C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E06-B822-4096-96D1-5DC1F19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670-F3D0-4125-BBF7-96880DF5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FD4-862E-401F-B8AC-40473C09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956-D19D-471E-ADB0-A7AE77B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6C5-996A-409F-BDC8-DD4DDA8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205-0302-4C9F-8B7B-A8D7B9A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D8D-37DA-4718-B4E7-B7440EF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7E93-392B-4B1D-8A76-0A678599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3240" y="52560"/>
            <a:ext cx="9137880" cy="780840"/>
            <a:chOff x="-3240" y="52560"/>
            <a:chExt cx="9137880" cy="780840"/>
          </a:xfrm>
        </p:grpSpPr>
        <p:pic>
          <p:nvPicPr>
            <p:cNvPr id="49" name="Picture 4" descr="ГЕРБ"/>
            <p:cNvPicPr/>
            <p:nvPr/>
          </p:nvPicPr>
          <p:blipFill>
            <a:blip r:embed="rId1"/>
            <a:stretch/>
          </p:blipFill>
          <p:spPr>
            <a:xfrm>
              <a:off x="-3240" y="60480"/>
              <a:ext cx="770040" cy="763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0" name="Object 5"/>
            <p:cNvGraphicFramePr/>
            <p:nvPr/>
          </p:nvGraphicFramePr>
          <p:xfrm>
            <a:off x="8308800" y="52560"/>
            <a:ext cx="825840" cy="78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08800" y="52560"/>
                      <a:ext cx="82584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Text Box 6"/>
            <p:cNvSpPr/>
            <p:nvPr/>
          </p:nvSpPr>
          <p:spPr>
            <a:xfrm>
              <a:off x="746280" y="235080"/>
              <a:ext cx="7608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Министерство строительства, архитектуры и ЖКХ Республики Татарст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338-6050-4B85-8BEB-DBB8A1E3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855720"/>
            <a:ext cx="91440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Реализация 185-ФЗ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Ввод жилья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в Республике Татарс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в 2010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июля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F988-E6EE-4DB2-B95A-A5DAD10B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18900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нформация по вводу жилья по д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Татарстанстат» з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полугодие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2010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(кв. мет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268280"/>
          <a:ext cx="8713800" cy="4651560"/>
        </p:xfrm>
        <a:graphic>
          <a:graphicData uri="http://schemas.openxmlformats.org/drawingml/2006/table">
            <a:tbl>
              <a:tblPr/>
              <a:tblGrid>
                <a:gridCol w="5680080"/>
                <a:gridCol w="3033720"/>
              </a:tblGrid>
              <a:tr h="14684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овое задание по РТ на 2010 го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000 00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598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Введено по Р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13 54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з них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 программе ГЖФ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прогноз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0 00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250920" y="189000"/>
            <a:ext cx="83534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йтинг МО РТ по вводу жил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за 1 полугодие 2010 года           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(кв. 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8000" y="982800"/>
          <a:ext cx="8856720" cy="5668920"/>
        </p:xfrm>
        <a:graphic>
          <a:graphicData uri="http://schemas.openxmlformats.org/drawingml/2006/table">
            <a:tbl>
              <a:tblPr/>
              <a:tblGrid>
                <a:gridCol w="349200"/>
                <a:gridCol w="1593720"/>
                <a:gridCol w="792360"/>
                <a:gridCol w="782640"/>
                <a:gridCol w="711000"/>
                <a:gridCol w="351000"/>
                <a:gridCol w="1755720"/>
                <a:gridCol w="924120"/>
                <a:gridCol w="960120"/>
                <a:gridCol w="636840"/>
              </a:tblGrid>
              <a:tr h="450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а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9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вл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8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иш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0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ыз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меть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2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ке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-Слобод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деле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б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Наб.Чел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5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биц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нака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люмо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субае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ас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треч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рлат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мша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екам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9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мано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Ка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6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сто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п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Усть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6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5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гор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4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ныш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жжанов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таз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н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ого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юляч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юш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Усло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абуж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дыш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4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гульм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9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шешмин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морски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3 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89000"/>
            <a:ext cx="9252000" cy="2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Жилищная Программа по данным МО РТ на 2011-2013 го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3080" y="620640"/>
          <a:ext cx="9036000" cy="5845320"/>
        </p:xfrm>
        <a:graphic>
          <a:graphicData uri="http://schemas.openxmlformats.org/drawingml/2006/table">
            <a:tbl>
              <a:tblPr/>
              <a:tblGrid>
                <a:gridCol w="322200"/>
                <a:gridCol w="1584360"/>
                <a:gridCol w="792000"/>
                <a:gridCol w="792360"/>
                <a:gridCol w="811080"/>
                <a:gridCol w="322200"/>
                <a:gridCol w="1746360"/>
                <a:gridCol w="865080"/>
                <a:gridCol w="935280"/>
                <a:gridCol w="865080"/>
              </a:tblGrid>
              <a:tr h="1828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ыз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иш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ог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суба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мады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аны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дел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зел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ке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слюм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аст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шешм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урлат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н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стреч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вл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-Слобод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тас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б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гульм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ман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ас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-Усло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юш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гор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ка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жжано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юляч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абуж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6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7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емша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ополь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ленодоль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таз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йбиц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Наб.Чел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 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 6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8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км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Каза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-Устьин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 по 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42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9 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2 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197000"/>
          <a:ext cx="8569080" cy="4896000"/>
        </p:xfrm>
        <a:graphic>
          <a:graphicData uri="http://schemas.openxmlformats.org/drawingml/2006/table">
            <a:tbl>
              <a:tblPr/>
              <a:tblGrid>
                <a:gridCol w="6589440"/>
                <a:gridCol w="197964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в реестре по РТ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етер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заключивших догов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 Программе социальной ипот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рынке жил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строительство нового жиль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ерез ГИСУ РТ, по отдельной программе г.Каз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fc5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FF02-892C-45D6-8AA1-EE0C73B2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водная информация по 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о ходе обеспечения жильем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теранов ВОВ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ставших на учет после 01.03.200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856764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4D2-9094-433B-98EE-F234AB6A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нформация по Программ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Ж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о улучшению жилищных условий ветера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ОВ, вставших на учет после 01.03.20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8000" y="1773360"/>
          <a:ext cx="8928000" cy="2282760"/>
        </p:xfrm>
        <a:graphic>
          <a:graphicData uri="http://schemas.openxmlformats.org/drawingml/2006/table">
            <a:tbl>
              <a:tblPr/>
              <a:tblGrid>
                <a:gridCol w="1295280"/>
                <a:gridCol w="1498680"/>
                <a:gridCol w="1957320"/>
                <a:gridCol w="1657440"/>
                <a:gridCol w="1584360"/>
                <a:gridCol w="934920"/>
              </a:tblGrid>
              <a:tr h="915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 (инд.ж.д.) для ветер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3 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7 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0 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8609760" y="652464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866-3CD2-41B3-8322-DFAA5621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нформация по Программ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СУ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о улучшению жилищных условий ветера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ОВ, вставших на учет после 01.03.20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8000" y="1773360"/>
          <a:ext cx="8928000" cy="2282760"/>
        </p:xfrm>
        <a:graphic>
          <a:graphicData uri="http://schemas.openxmlformats.org/drawingml/2006/table">
            <a:tbl>
              <a:tblPr/>
              <a:tblGrid>
                <a:gridCol w="1295280"/>
                <a:gridCol w="1440000"/>
                <a:gridCol w="1944720"/>
                <a:gridCol w="1655640"/>
                <a:gridCol w="1584360"/>
                <a:gridCol w="1008000"/>
              </a:tblGrid>
              <a:tr h="915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 (инд.ж.д.) для ветер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 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 6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4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696960"/>
          <a:ext cx="8856720" cy="5992920"/>
        </p:xfrm>
        <a:graphic>
          <a:graphicData uri="http://schemas.openxmlformats.org/drawingml/2006/table">
            <a:tbl>
              <a:tblPr/>
              <a:tblGrid>
                <a:gridCol w="307800"/>
                <a:gridCol w="1694160"/>
                <a:gridCol w="771480"/>
                <a:gridCol w="2541600"/>
                <a:gridCol w="1231920"/>
                <a:gridCol w="923760"/>
                <a:gridCol w="847800"/>
                <a:gridCol w="538200"/>
              </a:tblGrid>
              <a:tr h="54792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нака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654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суба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ныш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к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ст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н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вл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5860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ас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.отдел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с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усло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.отде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жжан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б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Ка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Усть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.работы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7"/>
          <p:cNvSpPr/>
          <p:nvPr/>
        </p:nvSpPr>
        <p:spPr>
          <a:xfrm>
            <a:off x="0" y="-27000"/>
            <a:ext cx="91440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ограм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ИСУ Р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о строительству жилья дл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теранов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а 01.07.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08000" y="852480"/>
          <a:ext cx="8712000" cy="5313240"/>
        </p:xfrm>
        <a:graphic>
          <a:graphicData uri="http://schemas.openxmlformats.org/drawingml/2006/table">
            <a:tbl>
              <a:tblPr/>
              <a:tblGrid>
                <a:gridCol w="306360"/>
                <a:gridCol w="1679400"/>
                <a:gridCol w="841680"/>
                <a:gridCol w="2217600"/>
                <a:gridCol w="1355760"/>
                <a:gridCol w="928800"/>
                <a:gridCol w="828360"/>
                <a:gridCol w="554040"/>
              </a:tblGrid>
              <a:tr h="54792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бъ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роительства объектов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по форм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-2, КС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мо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люм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0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шешм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треч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-Слобод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б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юляч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р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по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зем.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фунда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ладка ст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 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 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7"/>
          <p:cNvSpPr/>
          <p:nvPr/>
        </p:nvSpPr>
        <p:spPr>
          <a:xfrm>
            <a:off x="0" y="0"/>
            <a:ext cx="9144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ограм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ИСУ Р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о строительству жилья для ветеранов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а 01.07.2010 г.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0" y="260280"/>
            <a:ext cx="914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Информация по строящимся дл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теранов ВОВ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бъект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ногоквартирного жилья  в г.Казани чер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УП «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ирекция Муниципальных жилищных програм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8000" y="1341360"/>
          <a:ext cx="8928000" cy="4089600"/>
        </p:xfrm>
        <a:graphic>
          <a:graphicData uri="http://schemas.openxmlformats.org/drawingml/2006/table">
            <a:tbl>
              <a:tblPr/>
              <a:tblGrid>
                <a:gridCol w="250920"/>
                <a:gridCol w="2268360"/>
                <a:gridCol w="936720"/>
                <a:gridCol w="1295280"/>
                <a:gridCol w="1368360"/>
                <a:gridCol w="1152720"/>
                <a:gridCol w="1655640"/>
              </a:tblGrid>
              <a:tr h="10659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бъ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вартир для ветер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строи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ная стоимость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 ветеранами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средств ветеранов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кв. ж.д. ул.Дубравная, №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этажей карк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 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кв. ж.д. ул.Дубравная,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этажей карк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 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8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кв. ж.д. Бр.Касимов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06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кв. ж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йского, д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0»-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062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кв. ж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йского, д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0»-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274680">
                <a:tc gridSpan="2">
                  <a:txBody>
                    <a:bodyPr lIns="126000" rIns="12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 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26000" rIns="12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"/>
          <p:cNvSpPr/>
          <p:nvPr/>
        </p:nvSpPr>
        <p:spPr>
          <a:xfrm>
            <a:off x="684360" y="-100080"/>
            <a:ext cx="77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инансирование программы капитального ремо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8760" y="1197000"/>
          <a:ext cx="7786440" cy="4659120"/>
        </p:xfrm>
        <a:graphic>
          <a:graphicData uri="http://schemas.openxmlformats.org/drawingml/2006/table">
            <a:tbl>
              <a:tblPr/>
              <a:tblGrid>
                <a:gridCol w="3011400"/>
                <a:gridCol w="1528560"/>
                <a:gridCol w="2291040"/>
                <a:gridCol w="955440"/>
              </a:tblGrid>
              <a:tr h="14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ислено на счета УК и ТС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4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3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36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07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9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 61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 44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7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684360" y="-100080"/>
            <a:ext cx="77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Освоение программы капитального ремо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1197000"/>
          <a:ext cx="8928000" cy="1928880"/>
        </p:xfrm>
        <a:graphic>
          <a:graphicData uri="http://schemas.openxmlformats.org/drawingml/2006/table">
            <a:tbl>
              <a:tblPr/>
              <a:tblGrid>
                <a:gridCol w="1871640"/>
                <a:gridCol w="1440000"/>
                <a:gridCol w="1584000"/>
                <a:gridCol w="1944720"/>
                <a:gridCol w="2087640"/>
              </a:tblGrid>
              <a:tr h="12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о средст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о акто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 актов ГЖ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3600"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Татар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 44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898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260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2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981000"/>
          <a:ext cx="7848720" cy="5469120"/>
        </p:xfrm>
        <a:graphic>
          <a:graphicData uri="http://schemas.openxmlformats.org/drawingml/2006/table">
            <a:tbl>
              <a:tblPr/>
              <a:tblGrid>
                <a:gridCol w="826920"/>
                <a:gridCol w="3657600"/>
                <a:gridCol w="3364200"/>
              </a:tblGrid>
              <a:tr h="7416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чания по дом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накаев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ише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некам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бин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юлячин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ае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Каза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d5d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233"/>
          <p:cNvSpPr/>
          <p:nvPr/>
        </p:nvSpPr>
        <p:spPr>
          <a:xfrm>
            <a:off x="468360" y="3538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 не устранившие замечания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 29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формация по МКД не представившим ПСД на экспертизу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 29.06.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26920" y="1052640"/>
          <a:ext cx="7416720" cy="5096880"/>
        </p:xfrm>
        <a:graphic>
          <a:graphicData uri="http://schemas.openxmlformats.org/drawingml/2006/table">
            <a:tbl>
              <a:tblPr/>
              <a:tblGrid>
                <a:gridCol w="483840"/>
                <a:gridCol w="3869280"/>
                <a:gridCol w="306360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о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ыз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вл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одо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иш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екам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а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Каз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N:\Капремонт\Документы к ВИДЕО\ГЖИ\Г.Альметьевск\Фото\Фото042.jpg"/>
          <p:cNvPicPr/>
          <p:nvPr/>
        </p:nvPicPr>
        <p:blipFill>
          <a:blip r:embed="rId1"/>
          <a:stretch/>
        </p:blipFill>
        <p:spPr>
          <a:xfrm>
            <a:off x="142920" y="765000"/>
            <a:ext cx="8893080" cy="6010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955800" y="69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акриловой грунтовки и фактурного покрытия               ООО «Тиккол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од исполнения решений протокола видеоконфер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т 25.06.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692280"/>
          <a:ext cx="8856720" cy="6116400"/>
        </p:xfrm>
        <a:graphic>
          <a:graphicData uri="http://schemas.openxmlformats.org/drawingml/2006/table">
            <a:tbl>
              <a:tblPr/>
              <a:tblGrid>
                <a:gridCol w="4824360"/>
                <a:gridCol w="4032360"/>
              </a:tblGrid>
              <a:tr h="223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пор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256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2.1 главам МО РТ в срок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 01.07.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 Министерство строительства доработанные проекты программ жилищного строительства на 2011-2013 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остоянию на  01.07.2010 г. согласно данным МО РТ параметры трехлетней жилищной программы составляют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од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4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 кв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год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 кв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од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 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перечня земельных участков с готовой инженерной инфраструктурой для строительства жилья в 2011 году с расшифровкой объемов по жилым до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ы всеми МО 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дополнительных площадок с учетом высвобождения земельных участков при сносе ветхого и аварийного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представлены 8 МО РТ (на 21 га), в т.ч.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ызский – 0,6 га, Аксубаевский – 0,15 га, Балтасинский – 7 га, Дрожжановский – 6,9 га, Кайбицкий – 3 га, Мамадышский – 1,5 га, Нурлатский – 1,4, Ютазинский – 0,3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2.2 главам МО РТ в срок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 01.09.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но-сметной документации по задельным объектам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данном направлении начата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Казани и г.Набережные Чел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2.3 Министерству строительства в срок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 20.07.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7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ограммы жилищного строительства на 2011-2013 годы с учетом пообъектной информации муниципальных образований республики, ГЖ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м согласно данным МО РТ предварительно сформирована жилищная программа с планируемым объемом ввода  в 2011 году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4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кв.м., в 2012 году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кв.м., в 2013 году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кв. 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0" y="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од исполнения решений протокола видеоконфер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т 25.06.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907920"/>
          <a:ext cx="8856720" cy="5761080"/>
        </p:xfrm>
        <a:graphic>
          <a:graphicData uri="http://schemas.openxmlformats.org/drawingml/2006/table">
            <a:tbl>
              <a:tblPr/>
              <a:tblGrid>
                <a:gridCol w="4248360"/>
                <a:gridCol w="144360"/>
                <a:gridCol w="4464000"/>
              </a:tblGrid>
              <a:tr h="2174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пор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gridSpan="3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2.4 ГЖФ в срок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 01.07.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976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ь материалы к проведению Попечительского Совета ГЖФ по вопросам утвержд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объектной Программы жилищного строительства на 2010 год, скорректированной с учетом строительства жилья для ветеранов В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екта программы строительства на 2011-2013 годы с учетом количества граждан, стоящих на учете нуждающихся в улучшении жилищных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ЖФ внесены коррективы в существующую программу 2010 года с учетом реализации дополнительной жилищной программы улучшения жилищных условий ветеранов ВОВ. Ранее планировалось ввести 753 тыс.кв. метров жилья, с учетом объемов ввода жилья по программе для ветеранов ВОВ, планируется ввести 903 тыс.кв.м. жилья. С учетом изложенного для ветеранов ВОВ планируется построить около 150 тыс.кв.м. жил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3 542 квартиры (дом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ект на 2011-2013 годы ГЖФ не представл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3.1 ГЖФ, ГИСУ РТ, главам МО РТ в срок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 30.06.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548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ить заключение с ветеранами ВОВ, включенными в дополнительный спис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остоянию на 01.07.2010 г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Ж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о с ветеранами ВОВ 2 699 договоров с учетом ветеранов, дополнительно включенных в список. При этом 2 262 ветерана обеспечены финансированием, по которым перечислены субсидии на счета ГЖФ на сумму 2 134 млн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остоянию на 01.07.2010 г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У 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о с ветеранами ВОВ 980 договоров, в том числе включены 90 ветеранов из дополнительного сп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0" y="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од исполнения решений протоколов видеоконфер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т 25.06.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79560"/>
          <a:ext cx="8856720" cy="5689440"/>
        </p:xfrm>
        <a:graphic>
          <a:graphicData uri="http://schemas.openxmlformats.org/drawingml/2006/table">
            <a:tbl>
              <a:tblPr/>
              <a:tblGrid>
                <a:gridCol w="4824360"/>
                <a:gridCol w="4032360"/>
              </a:tblGrid>
              <a:tr h="2952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пор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268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3.2 главам МО 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разъяснительную работу с ветеранами ВОВ, включенных в дополнительный список, о наличии возможности улучшения жилищных условий в строящихся многоквартирных домах пос.Осиново Зеленодольского муниципального рай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стоящее время МО РТ ведется недостаточная работа по данному вопросу, за прошедшую неделю количество ветеранов, изъявивших желание на улучшение жилищных условий в п. Осиново увеличило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 9 челов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3.3 ГЖФ, ГИСУ РТ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П «Дирекция муниципальных жилищных програм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3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на всех объектах круглосуточного режима работы, ведение строительства с соблюдением СНиП, контроль выдачи рабочим средств индивидуальной защ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анным МО РТ, благодаря полученным авансовым средствам, работы на всех объектах развернуты в круглосуточном режиме. Заказчиками (ГЖФ, ГИСУ РТ) взят на контроль соблюдение подрядчиками правил техники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3.4 ГС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и надзор за ходом строительства объектов жилья. Ужесточение требований к качеству строительства домов, соблюдению правил техник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 жилья, строящиеся для ветеранов ВО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СН Р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ты на особый контроль, также проверяется соблюдение рабочими правил техники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03:08Z</dcterms:created>
  <dc:creator>serg</dc:creator>
  <dc:description/>
  <dc:language>en-US</dc:language>
  <cp:lastModifiedBy>Субботкин</cp:lastModifiedBy>
  <dcterms:modified xsi:type="dcterms:W3CDTF">2010-07-01T16:24:16Z</dcterms:modified>
  <cp:revision>445</cp:revision>
  <dc:subject/>
  <dc:title>Презентация PowerPoint</dc:title>
</cp:coreProperties>
</file>